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2496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53988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526503F-8A51-4238-A28F-5B0599BF40B7}" type="datetime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29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move the slide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180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53988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5C74E7F-D6E6-400F-AFB3-8F899C10D535}" type="slidenum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952640" y="730080"/>
            <a:ext cx="234324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24960" y="4560480"/>
            <a:ext cx="4992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54024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D2C341-638F-4F22-A531-F77268D26561}" type="slidenum">
              <a:rPr b="0" i="1" lang="tr-TR" sz="10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336-36D0-45CA-9FE5-BBD917E0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8D6-3687-4F25-90D0-AA124DA8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DB8-D324-4CB3-BE3D-730C0E5D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779-9B1C-4689-813B-B204257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4384-E206-478A-9766-C2B5625D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50A2-A281-4902-BD18-4741188C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9D76-43C1-4CE5-9207-59B117A6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D03-CD9D-419F-B89C-6B41E55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C580-1F6E-48B1-AED5-7286D46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899-A7B0-49EC-83EC-52DE60AF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356E-D29C-45DE-A5D4-1ACBA838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AA5-46FA-43F3-AC66-A0F95003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14DF-8052-4D1B-A139-BB58A95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34F4-A319-4240-A410-E0B88B6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4F3-ABE1-4407-8D0E-4111C10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0733-9E30-4045-8F60-A6435A70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AD3A-1D09-49DB-8081-75ED02BB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38-6FB7-4B96-A487-8859587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A04-506C-4F67-9B26-6A767A0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270-173C-46F8-99E5-42FD16B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987-FA1E-44D3-B4D7-90F5FFE4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54B-2A47-40E5-AB4E-106A100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B3D-4332-48B1-B4A7-35944CC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0EC-65D2-4556-A332-E2604DC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0BE9-5E31-4FFE-BDAD-91505685464F}" type="slidenum">
              <a:rPr b="0" lang="tr-TR" sz="14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2"/>
          <p:cNvGraphicFramePr/>
          <p:nvPr/>
        </p:nvGraphicFramePr>
        <p:xfrm>
          <a:off x="131760" y="225360"/>
          <a:ext cx="88884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760" y="225360"/>
                    <a:ext cx="8888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472A-A94A-435C-B184-4103619D9D3A}" type="slidenum">
              <a:rPr b="0" lang="tr-TR" sz="14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2131920"/>
            <a:ext cx="844848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 Tur"/>
                <a:ea typeface="Arial Tur"/>
              </a:rPr>
              <a:t>Pelvic Sectional Anatomy and Imaging Technique</a:t>
            </a:r>
            <a:endParaRPr b="1" lang="en-US" sz="28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000" y="401472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 Tur"/>
                <a:ea typeface="Arial Tur"/>
              </a:rPr>
              <a:t>Alp Dincer, M.D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University, School of Medicine,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Department of Radiology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Altunizde Hospital, İstanbul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Tur"/>
              </a:rPr>
              <a:t>intro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Imaging Technique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Sectional Anatomy</a:t>
            </a:r>
            <a:r>
              <a:rPr b="0" lang="en-US" sz="2400" spc="-1" strike="noStrike">
                <a:solidFill>
                  <a:srgbClr val="ffff00"/>
                </a:solidFill>
                <a:latin typeface="Arial Tur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Aim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demonstarte pelvic anatomy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reveal or r/o possible cause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ffff"/>
                </a:solidFill>
                <a:latin typeface="Arial Tur"/>
              </a:rPr>
              <a:t>imaging modalities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X-Ray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US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CT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DSA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 Tur"/>
              </a:rPr>
              <a:t>MRA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tandardisa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im: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emonstarion of genitourinal soft tissu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pelvic bones and muscl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ascular stuctur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nerves and plexu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 protocol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rray coil, if needed intravaginal or rectal coi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T ?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standard 2D and 3D T1W/T2W w/o fat-sat or Dix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WI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olumetric PD, STIR and T1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ynamic volumetric T1 studies (arterial, venous and delayed)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DWI-DT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t least 6 direction for DTI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3T MR Neurography 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ar Plexus: L1-L5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acral Plexus: L4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osacral Plexus: L2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D SPACE STIR and/or PD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uliplanar volüm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IP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0:43Z</dcterms:created>
  <dc:creator>MUMİN</dc:creator>
  <dc:description/>
  <dc:language>en-US</dc:language>
  <cp:lastModifiedBy>Alp Dinçer</cp:lastModifiedBy>
  <cp:lastPrinted>1999-05-25T12:26:34Z</cp:lastPrinted>
  <dcterms:modified xsi:type="dcterms:W3CDTF">2018-04-20T10:51:48Z</dcterms:modified>
  <cp:revision>258</cp:revision>
  <dc:subject/>
  <dc:title>Slayt Başlığı Yok</dc:title>
</cp:coreProperties>
</file>